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32.png" ContentType="image/png"/>
  <Override PartName="/ppt/media/image15.wmf" ContentType="image/x-wmf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5.jpeg" ContentType="image/jpeg"/>
  <Override PartName="/ppt/media/image9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22E-FCFA-4CF1-B696-51515088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25A-EDF3-43D1-A3A7-102B8A5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A23-F4CC-4CEF-8D7B-FBE9E769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D9C-55D9-456C-B42B-FFA8FFA8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42D-65EB-4FDD-B16D-D2591D2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C24-79B5-44C6-8569-FA529E74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402-E553-4B92-B30D-1D3944E3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780-8D50-460A-88D0-C615EE60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871-C970-4F53-B3FA-096CF6D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D1B-8CF3-4FAF-B94A-0456F96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DFD-5B56-44BD-931A-6E9087B7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ABB-C8C7-41AA-98D3-A995D2B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3779-51BA-4CFA-8AF3-6375D89543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КЦИЯ 10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РОЛЛЕ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DICON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M340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877080" y="659772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ECCF-BE6B-4379-9051-F6BC45821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истики процессорного модул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MX P34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907920"/>
          <a:ext cx="8785440" cy="565164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152720"/>
                <a:gridCol w="4176720"/>
              </a:tblGrid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сл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количество слотов для процессорного и прочих моду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оенные интерфей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Modbus/TCP, 1 порт RJ45, 10/100 Мб/с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 стандарт. web- сервером Transparent Re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уль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Modbus/TСP10/100 Мбит/с, 2 порта RJ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утрен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M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ьзоват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ий раз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рограмм, констант и симв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яемая 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сполнения одной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- 1,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инструкций, выполняемых за 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инс./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- 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877080" y="659772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73FB-A016-48DF-BD4C-70472C7A6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истики модуля пит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MX P34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79280" y="1341360"/>
          <a:ext cx="8785440" cy="4973760"/>
        </p:xfrm>
        <a:graphic>
          <a:graphicData uri="http://schemas.openxmlformats.org/drawingml/2006/table">
            <a:tbl>
              <a:tblPr/>
              <a:tblGrid>
                <a:gridCol w="1008000"/>
                <a:gridCol w="1944720"/>
                <a:gridCol w="2319480"/>
                <a:gridCol w="1755720"/>
                <a:gridCol w="1757520"/>
              </a:tblGrid>
              <a:tr h="619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ое 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…2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…264~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ая/преде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60/47-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коврем. перебои в с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ичное пи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зная 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общ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 для питания модуля ввода/вывода и процессорного моду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ое 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ый 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. 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 на выходе для питания датч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ое 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ый 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нд. 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рассеиваемая мощ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877080" y="6597720"/>
            <a:ext cx="2133720" cy="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FB9-5380-405C-A78E-229E21D3D7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36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истики модуля дискретного ввода-вывод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M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981000"/>
          <a:ext cx="8785440" cy="5565960"/>
        </p:xfrm>
        <a:graphic>
          <a:graphicData uri="http://schemas.openxmlformats.org/drawingml/2006/table">
            <a:tbl>
              <a:tblPr/>
              <a:tblGrid>
                <a:gridCol w="2125800"/>
                <a:gridCol w="1274760"/>
                <a:gridCol w="1506600"/>
                <a:gridCol w="996840"/>
                <a:gridCol w="2881440"/>
              </a:tblGrid>
              <a:tr h="709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входов/вы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общих то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инальные 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 пост. 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. 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(резисторная нагруз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 перемен. т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. 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е характеристики  в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остоянии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(пр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B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остоянии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ротивление входа при номинальном нап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отклика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-4, максимальное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171" descr=""/>
          <p:cNvPicPr/>
          <p:nvPr/>
        </p:nvPicPr>
        <p:blipFill>
          <a:blip r:embed="rId1"/>
          <a:stretch/>
        </p:blipFill>
        <p:spPr>
          <a:xfrm>
            <a:off x="6372360" y="2492280"/>
            <a:ext cx="16164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804000" y="645336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2F79-4E07-4C44-AF5E-B5D0EDD4E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арактеристики модуля аналогового ввода-вывод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MX AMM 0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1413000"/>
          <a:ext cx="8640720" cy="3651120"/>
        </p:xfrm>
        <a:graphic>
          <a:graphicData uri="http://schemas.openxmlformats.org/drawingml/2006/table">
            <a:tbl>
              <a:tblPr/>
              <a:tblGrid>
                <a:gridCol w="1584360"/>
                <a:gridCol w="1296720"/>
                <a:gridCol w="1152720"/>
                <a:gridCol w="2087640"/>
                <a:gridCol w="2519280"/>
              </a:tblGrid>
              <a:tr h="717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ица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ка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изолированные вход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изолированные вы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кан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па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В, 0…5В,0…10В, 1…5В, 0…20мА, 4…20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В, 0…20мА, 4…20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величина пре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…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…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ь пре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оговый модуль BMX AMM 0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4034160" cy="46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9280" y="1125360"/>
          <a:ext cx="4648320" cy="4896000"/>
        </p:xfrm>
        <a:graphic>
          <a:graphicData uri="http://schemas.openxmlformats.org/drawingml/2006/table">
            <a:tbl>
              <a:tblPr/>
              <a:tblGrid>
                <a:gridCol w="1152720"/>
                <a:gridCol w="1655640"/>
                <a:gridCol w="1839960"/>
              </a:tblGrid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ем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6, 9,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o,…,U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“+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ла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…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7, 10,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o,…,I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резистора подключения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4, 15, 1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дключ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8, 11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0,…,CO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ла 0,…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/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U/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ла 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OM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нала 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Номер слайда 5"/>
          <p:cNvSpPr/>
          <p:nvPr/>
        </p:nvSpPr>
        <p:spPr>
          <a:xfrm>
            <a:off x="6804000" y="645336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97D-7F19-4F01-B983-5D8402290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етные мод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етные модул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EHC 02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EHC 0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формы автоматизации Modicon M340 предназначены для подсчета импульсов, сгенерированных датчиком, или обработки сигналов от инкрементного энкод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каждому каналу можно подключить следующие виды датчик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-проводные бесконтактные датчики 24 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-проводные бесконтактные датчики 24 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крементные энкодеры с выходным сигналом 10/30 В и двутактными вы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ходя из требований приложения, счетные модул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EHC 0200 / 0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но использовать для следующих зада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гнализация при опустошении счетчика (обратный отсч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тировка небольших предметов с использованием функции измерения длины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ктронный кулачковый переключатель с использованием динамической настройки значений для переклю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улирование скорости посредством измерения пери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определении конфигурации ПЛК Modicon M340 количество модулей счетчи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EHC 0200 / 080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бавляется к количеству специализированных модулей: коммуникации, управления перемещением, весоизме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24000" y="4797360"/>
            <a:ext cx="5329080" cy="1893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179280" y="4292640"/>
            <a:ext cx="871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ва модуля отличаются друг от друга по количеству счетных каналов, максимальной частоте входных сигналов, функциям и интерфейсам вспомогательных входов и выход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6156360" y="5148360"/>
            <a:ext cx="831960" cy="170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738360" cy="1555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5867280" y="47973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EHC 0200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EHC 0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EBB-447C-448C-9E1A-F6EAD559C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четные моду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624720" cy="287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4324680" cy="227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4356360" cy="193860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0807-BFBD-4EEA-A143-525DA80E0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управления переме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5545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MX MSP 0200 (1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тформы автоматизации Modicon M340 оснащен выходами импульсной последовательности (РТО), позволяющими управлять сервоприводами других производителей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и сервоприводы должны иметь встроенный контур положения и входы, совместимые с выходами с открытым колле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установке преобразователя универсального последовательного интерфейса (USIC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VW3 M3 102 (3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вертирующего сигналы управления 24 В пос. тока в сигналы интерфейса RS 422, модуль управл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MX MSP 02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овится совместимым с сервоприводами серии Lexium 05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дуль управления перемещение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MX MSP 020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независимых выхода РТО. Как и остальные специализированные модули, он устанавливается в любой свободный слот шасси с маркиров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оличество модулей ограничивается максимальным количеством специальных каналов управления, зависящим от типа процессорного моду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ндарт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MX P34 1000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20 специальных каналов управле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овершенствован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MX P34 20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36 специальных каналов управле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3198600" cy="373392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6E3-D578-41B4-A19D-05823B090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3584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86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управления перемещением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F1B7-27BF-4E35-B33D-568D74667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ть Ethernet Modbus/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85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web-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и во многих других модулях с поддержкой Ethernet, выпускаемых компанией Schneider Electric, стандартные web-службы также интегрированы в процессорных модулях и сетевых модулях Etherne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NOE 0100/11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ПЛК Modicon M3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помощью обычного Internet-браузера встроенный web-сервер позволяет использовать следующие уже запрограммированные фун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мотр конфигу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даленная диагностика и обслуживание 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мотр и настройка параметров (чтение/запись переменных, данные состоя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етевом модуле Etherne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NOE 011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установленной картой памя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RWS FC032M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троенный web-сервер так же позволяет использовать следующие фун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аварийно-предупредительной сигнализацией (системной и прикладной) частичным или полным квитированием (запрограммированная функция Alarm View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ранение и просмотр созданных пользователем web-стран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троенный web-сервер представляет собой сервер данных реального времени. Любые данные могут быть представлены в виде обычных web-страниц формата HTML, благодаря чему их можно открыть с помощью любого web-браузера, поддерживающего код Java. Стандартные функции web-сервера уже запрограммированы производителем и поэтому не требуют дополнительного программирования ПЛК или компьютера-клиента, на котором должен быть установлен web-брауз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1042920" y="5084640"/>
            <a:ext cx="3382920" cy="1625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4427640" y="5084640"/>
            <a:ext cx="3240000" cy="160344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BEE-07E2-4047-B9ED-FA548AEA6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2968-8883-42B9-ACE2-EEC4E8626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60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ключительн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ежный, мощный и компакт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граммируемый логический контроллер Modicon M340 – это идеальное решение для предприятий, специализирующихся в таких областях как нефтегазовый сектор, упаковка и обработка материалов, текстильная промышленность, печать, пищевая промышленность, деревообработка, керамика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ейство контроллеров Modicon включает три вида устройств, объединяемых в одно целое для построения разнообразных компонентов систем автоматизированного управ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орные моду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п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ввода-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4859280" y="907920"/>
            <a:ext cx="40626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3588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ционные сервисы Ethernet Modbus/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640720" cy="2519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08000" y="3357720"/>
            <a:ext cx="885672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80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ндартизованный (IEEE 802.3 и 802.11) вариант Ethernet для применения в промышле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UD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о транспортный протокол для передачи данных в сетях IP без установления соеди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TC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ин из основных сетевых протоколов Интернет, предназначенный для управления передачей данных в сетях и подсетях TCP/I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MT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о сетевой протокол, предназначенный для передачи электронной почты в сетях TCP/I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T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тевой протокол для синхронизации внутренних часов компьютера с использованием сетей с переменной латент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RTPS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доставление канала по результатам опроса для передачи в реальном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HC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динамической конфигурации узла, служащий для автоматического присвоения устройствам параметров конфигу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TFTP 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это сетевой протокол передачи, который используется для подключения к устройству и загрузки в него к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FTP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передачи файлов, содержищий все основные элементы, необходимые для совместного использования и обмена фай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ТTР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это протокол, обеспечивающий быстрый обмен web-страницами между сервером и браузе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Modbus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уникационный протокол, основанный на архитектуре «клиент-сервер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DR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жба замены неисправного устр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B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яющей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488-DA4F-44F6-95FB-FB9A4BFFAC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тевые модули Ethernet Modbus/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69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NOE 0100/011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яет собой стандартный модуль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нимающий один слот на монтажном шасси, в котором также установле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ный или усовершенствованный процессорный моду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лицевой панели модул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NOE 0100/0110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смотрены следующ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индикации и разъ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нт для надежного крепления модуля в слоте монтажного шас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ок индикации, в состав которого входят шесть светодиодных индикаторов, тр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которых выделены порту Ethern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 ETH ACT (зеленый): обмен по сети Ethernet TCP/I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 ETH STS (зеленый): состояние сети Ethernet TCP/I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катор ETH 100 (красный): скорость передачи данных по сети Ethernet TCP/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10 или 100 Мбит/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ек карты памяти, предназначенной для активации функции стандартного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web-сервера с поддержкой технологии Transparent Ready класса B30 или С30, 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висимости от мо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ъем RJ45 для подключения кабеля Ethernet TCP/IP 10BASE-T/100BASE-T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нопка RESET для “холодной” перезагрузки моду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задней панели расположены 2 галетных переключателя для присвоения IP-адр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ют 3 способа присвоения адре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рес присваивается двумя галетными переключат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рес присваивается в параметрах при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62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рес выдается сервером BOOTP Ethernet TCP/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81080" cy="273384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F019-B82A-42C8-BEBE-48D583F74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43588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50920" y="1459080"/>
            <a:ext cx="5178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ограммирования контроллера Modicon M340, используется сервис программного обеспеч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nit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всех этапах разработки и поддержки при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E0A8-CEEB-47E3-A0E2-3EE86F0A7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8"/>
          <p:cNvGrpSpPr/>
          <p:nvPr/>
        </p:nvGrpSpPr>
        <p:grpSpPr>
          <a:xfrm>
            <a:off x="5508720" y="1557360"/>
            <a:ext cx="3471840" cy="4029120"/>
            <a:chOff x="5508720" y="1557360"/>
            <a:chExt cx="3471840" cy="4029120"/>
          </a:xfrm>
        </p:grpSpPr>
        <p:grpSp>
          <p:nvGrpSpPr>
            <p:cNvPr id="160" name="Group 9"/>
            <p:cNvGrpSpPr/>
            <p:nvPr/>
          </p:nvGrpSpPr>
          <p:grpSpPr>
            <a:xfrm>
              <a:off x="5508720" y="1557360"/>
              <a:ext cx="2768040" cy="4029120"/>
              <a:chOff x="5508720" y="1557360"/>
              <a:chExt cx="2768040" cy="4029120"/>
            </a:xfrm>
          </p:grpSpPr>
          <p:pic>
            <p:nvPicPr>
              <p:cNvPr id="161" name="Picture 10" descr="NEW RENDU M340_v2"/>
              <p:cNvPicPr/>
              <p:nvPr/>
            </p:nvPicPr>
            <p:blipFill>
              <a:blip r:embed="rId1"/>
              <a:stretch/>
            </p:blipFill>
            <p:spPr>
              <a:xfrm>
                <a:off x="5827680" y="4224240"/>
                <a:ext cx="2325240" cy="136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1" descr="PC_unity"/>
              <p:cNvPicPr/>
              <p:nvPr/>
            </p:nvPicPr>
            <p:blipFill>
              <a:blip r:embed="rId2"/>
              <a:stretch/>
            </p:blipFill>
            <p:spPr>
              <a:xfrm>
                <a:off x="5891040" y="1557360"/>
                <a:ext cx="2385720" cy="21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Freeform 12"/>
              <p:cNvSpPr/>
              <p:nvPr/>
            </p:nvSpPr>
            <p:spPr>
              <a:xfrm>
                <a:off x="5508720" y="3192480"/>
                <a:ext cx="1674720" cy="16290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13" descr="CD_unity"/>
            <p:cNvPicPr/>
            <p:nvPr/>
          </p:nvPicPr>
          <p:blipFill>
            <a:blip r:embed="rId3"/>
            <a:stretch/>
          </p:blipFill>
          <p:spPr>
            <a:xfrm>
              <a:off x="7993080" y="2017800"/>
              <a:ext cx="987480" cy="91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707B-5EBB-4DC8-98DA-4CF21BF29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кция законче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724800" y="64533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68E-1641-42DF-A138-F2312585F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858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750960"/>
            <a:ext cx="9036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Усовершенствованные характер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 K инструкций/м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 Мб памяти для хранения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56 Кб для хранения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Компактный форм-фа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ссорный модуль с тремя встроенными портами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абаритные размеры 100 x 32 x 93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и дискретного ввода/вывода повышенной плотности с 64 каналами при ширине 32 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строенные коммуникационные возмо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ина CANop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ть Ethernet TCP/IP, технология Transparent Read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Modbus, последовательный интерфейс (RTU) или символьный режим (ASCI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даленный доступ по STN, GSM, радио-канал или ADS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Специальные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и счетчика с готовым набором функ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иблиотека функциональных блоков для управления движением. Библиотека MFB по стандарту PLCop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ная библиотека блоков регулирования с акцентом на управление агрега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Инновационные возмо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рт USB в стандартной комплект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троенные функции web-серв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ие файлами “рецептов” по протоколу F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рта памяти Secure Digital с поддержкой Plug and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онезависимая память (без батарей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очность и наде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трукция монтажного шасси позволяет устанавливать и извлекать модули непосредственно во время работы (Hot Swap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8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Modicon M340 удовлетворяет и превышает требования стандартов по механическим ударам, вибрации, воздействию температуры, высоте и стойкости к электромагнитным помех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5192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Процессорные мод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61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ндартные и усовершенствованные процессорные модули платформы автоматизации Modicon M340 обеспечивают полноценное управление всем монтажным шасси ПЛК, оснащенным максимум 11 слотами под установ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ей дискретного ввода/выв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ей аналогового ввода/выв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зированных модулей (счетного, связи по Ethernet TCP/IP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тыре процессорных модуля отличаются друг от друга по объему памяти, скорости обработки данных, типу и количеству портов связи и максимальному количеству каналов ввода/вы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оме этого, в зависимости от модели, процессорный модуль может иметь (не суммируются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512 до 1024 каналов дискретного ввода/выв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128 до 256 каналов аналогового ввода/выво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0 до 36 счетных кан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0 до 2 портов Ethernet TCP/IP (со встроенными портом и сетевым модулем или без ни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зависимости от модели процессорные модули платформы Modicon M340 име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рт 10BASE-T/100BASE-TX Ethernet TCP/I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ину CANop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овательный интерфейс Modb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ER-порт USB (для программирования терминала или ЧМИ Magelis XBT GT/GK/GTW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ждый процессорный модуль комплектуется картой памяти, предназначенной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я резервных копий приложения (программы, символов и констант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тивации стандартного web-сервера по встроенному порту Ethernet класса B10 Transparent Ready (в зависимости от модел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7885080" y="692280"/>
            <a:ext cx="98100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6659640" y="692280"/>
            <a:ext cx="957240" cy="201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7956720" y="3500280"/>
            <a:ext cx="1006200" cy="206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6588000" y="3500280"/>
            <a:ext cx="97488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7740000" y="27813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BMX P34 20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42920" y="27813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BMX P34 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6442920" y="55166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BMX P34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7740000" y="551664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BMX P34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49A0-63D8-4C91-80FA-291D69FF0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6443640" y="549360"/>
            <a:ext cx="1368360" cy="2592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орные модули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4319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и данных приложения, могут быть двух тип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2462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изованные данные, т.е. данные с определенным адресом, с которым может быть связан симво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2462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локализованные данные, т.е. данные, определенные только симво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ь программы, символов и комментариев: на уровне программы эта область содержит исполняемый двоичный код и исходный код МЭ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ь констант: эта область содержит постоянные локализованные данные (%KW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ь он-лайнового изменения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блирующие области: созданием копий и восстановлением данных (при включении питания) автоматически управляет операционная система, поэтому они являются прозрачными для пользов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ь стандартных web-сервисов: для процессорных модулей со встроеным портом Ethernet Modbus/TCP эта область в 2 Мб предназначена для стандартных web-серви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асть хранения файлов: эта область до 8 Мб или до 128 Мб позволяет управлять файл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 FTP с сохранением любых, определённых пользователем документов Word, Excel, PowerPoint или Acrobat Read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о EFB пользовательской функции блок-массивов дополнительных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798160" y="429264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К как накопител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A3FA-072E-453F-82DB-CADC181AF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4680000" cy="26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1476360" y="549360"/>
            <a:ext cx="5761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уктура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орный модуль с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дартной картой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46278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одули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6697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питания обеспечивают питанием каждое монтажное шасси и установленные на нем моду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а типа модулей пит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питания переменного т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питания постоянн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питания выбираются исходя из следующих характеристи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тание: 24 В    , 48 В     и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0...240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мая мощ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лицевой панели модулей питания предумотрены следующие средства индикации/управления и разъ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ок индикации, состоящий из следующих светодиодных индикатор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индикатор OK (зеленый, загорается при наличии требуемого напряжения питания на монтажном шасс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индикатор 24 В (зеленый), загорается при наличии напряжения питания датч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нопка RESET для “холодной” перезагрузки при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-контактный разъем под съемную клеммную колодку (винтовую или пружинную) для подключения реле сигнал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-контактный разъем под съемную клеммную колодку (винтовую или пружинную) для подключ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беля питания     и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щитного зазем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" indent="37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беля выделенного питания напряжением 24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подключенных датч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730160" cy="188460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5"/>
          <p:cNvSpPr/>
          <p:nvPr/>
        </p:nvSpPr>
        <p:spPr>
          <a:xfrm>
            <a:off x="68770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5615-B703-4263-A549-9F04D49CE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373040" cy="177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7380360" y="2708280"/>
            <a:ext cx="1306440" cy="1728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7162560" y="443700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CPS 2010/3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162560" y="242100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CPS 2000/3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7164360" y="2421000"/>
            <a:ext cx="1800360" cy="20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4"/>
          <a:stretch/>
        </p:blipFill>
        <p:spPr>
          <a:xfrm>
            <a:off x="2124000" y="5516640"/>
            <a:ext cx="162000" cy="9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5"/>
          <a:stretch/>
        </p:blipFill>
        <p:spPr>
          <a:xfrm>
            <a:off x="1979640" y="2133720"/>
            <a:ext cx="162000" cy="95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6"/>
          <a:stretch/>
        </p:blipFill>
        <p:spPr>
          <a:xfrm>
            <a:off x="2700360" y="2133720"/>
            <a:ext cx="162000" cy="9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7"/>
          <a:stretch/>
        </p:blipFill>
        <p:spPr>
          <a:xfrm>
            <a:off x="4932360" y="6021360"/>
            <a:ext cx="16200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877080" y="652464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1D4-0DEF-4142-94FF-3237F6D28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одули дискретного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640" y="836640"/>
            <a:ext cx="6335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дискретного ввода/вывода для платформы автоматизации Modicon M340 представляют собой стандартные модули, занимающие один слот и оснащенные одним из следующих разъе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ъемом под винтовую или пружинную 20-контактную съемную клеммную колод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ним или двумя 40-контактными соединительными разъем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ьшое количество дискретных входов и выходов в состоянии удовлетворить любым требованиям с точки зр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й: входы/выходы переменного или постоянного тока, положительная или отрицательная лог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ьности – 8, 16, 32 или 64 каналов на моду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входы модуля могут подаваться сигналы датчиков и при этом обеспечи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 сигн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аптация уровн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лектрическая развяз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льтр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щита от “паразитных” пом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выходах “запоминаются” сформированные процессорным модулем команды, и при этом обеспечивается управление по цепям дискретных ка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дискретного ввода/вывода имеют стандартный форм-фактор (занимают 1 слот). Прочный кожух модуля надежно защищает спрятанную внутри электронику и соответствует классу защиты IP 20. Для надежной фиксации модуля в слоте предусмотрен невыпадающий ви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6588000" y="765000"/>
            <a:ext cx="87948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7885080" y="765000"/>
            <a:ext cx="846000" cy="18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7451640" y="2997360"/>
            <a:ext cx="81756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73980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7095600" y="479736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BMX DDM 3202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6373800" y="54936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BMX DDI 3202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7166520" y="270828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BMX DDM 160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7669080" y="54936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BMX DDI 6402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7020000" y="2708280"/>
            <a:ext cx="1800000" cy="2016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7640" y="836280"/>
            <a:ext cx="554364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дули ввода/вывода с разъемом для подключения к 20-контактной съемной клеммной коло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ный корпус надежно поддерживает и обеспечивает защиту встроенной электро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дентификационная маркировка модуля (этикетка на правой стороне модул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ок индикации состояния ка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ъем для 20-контактной съемной клеммной колодки для подключения датчиков или промежуточных р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-контактная съемная клеммная колодк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ли готовый кабель с 20-контактной съемной клеммной колодкой и свободными проводами на другом кон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дули ввода/вывода с подключением к 40-контактному разъ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ный корпус надежно поддерживает и обеспечивает защиту встроенной электро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дентификационная маркировка модуля (этикетка на правой стороне модул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лок индикации состояния ка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или два 40-контактных разъема (32 или 64 канала) (1) для подключения датчиков или промежуточных р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4-канальный модуль с кнопкой, при нажатии которой на блоке индик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переменно высвечивается состояние каналов 0...31 и 32...6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069-5E80-4C57-9F7B-882C3984C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68360" y="1159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одули дискретного ввода/вывода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3620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877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4C45-4F1B-449F-BFB2-2A809BFE9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одули аналогового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7056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остав модулей аналогового ввода/вывода в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и изолированных модуля аналогового в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высокоскоростных аналоговых канала (16 бит) напряжения/то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MI 041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и 8 аналоговых каналов (15 бит + знак) для термопар и датчиков температуры Pt, Ni или Cu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RT 0414/08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модуль аналогового ввода с 2 каналами напряжения/ток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MO 02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71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смешанный модуль (12 бит) с 4 аналоговыми входными каналами и 2 аналоговыми выходными неизолированными каналами напряжения/тока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MM 06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одулях аналогового ввода/вывода предусмотрен разъем под 20-контактную съемную клеммную колодку, за исключением модулей аналогового ввод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RT 0414/081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термопарами/датчиками температуры, которые снабжены 40-контактным соединительным разъем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аналоговые модули занимают один слот монтажных шасси. Эти модули можно устанавливать в любой слот монтажного шасси, кроме первых двух (PS и 00), которые зарезервированы для установки модуля питания и процессорного модуля, соответственно. Снабжение аналоговых модулей электропитанием осуществляется по объединяющей шине (3,3 и 24 В). Модули аналогового ввода/вывода можно извлекать и устанавливать без отключения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онфигурации Modicon M340 с одним монтажным шасси максимальное количество аналоговых каналов зависит от количества доступных слотов монтажного шасси (до 11 слот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ули аналогового ввода/вывод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BMX A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/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RT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ют стандартный форм-фактор (занимают 1 слот). Прочный корпус модуля надежно защищает электронные компоненты и соответствует классу защиты IP 20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7667640" y="4005360"/>
            <a:ext cx="103968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453080" y="37162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ART 04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7740720" y="1268280"/>
            <a:ext cx="1022400" cy="20685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7381800" y="98100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BMX AMM 0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7308720" y="981000"/>
            <a:ext cx="1656000" cy="237672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3:21:39Z</dcterms:created>
  <dc:creator>Елена</dc:creator>
  <dc:description/>
  <dc:language>en-US</dc:language>
  <cp:lastModifiedBy>Бикбулатов И.Х.</cp:lastModifiedBy>
  <dcterms:modified xsi:type="dcterms:W3CDTF">2010-03-30T15:23:11Z</dcterms:modified>
  <cp:revision>146</cp:revision>
  <dc:subject/>
  <dc:title>ЛЕКЦИЯ 1 УПРАВЛЕНИЕ ПРОИЗВОДСТВОМ НА ОСНОВЕ ИНТЕГРИРОВАННЫХ СИСТЕМ ПРОЕКТИРОВАНИЯ И УПРАВЛЕНИЯ </dc:title>
</cp:coreProperties>
</file>